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E19-8EE9-4D92-86C1-740862E5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A2F-476A-46DD-B83C-8F898FA7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FBB-3B89-4B82-A3FA-2EFEB9DF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085-6F9A-4C97-B62C-23603809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FACE-8975-46D6-872C-E1DFFDE8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C5B-EDF4-491F-96DD-E5DDF3C5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37E-2899-4FE6-9ECF-EDEA7FA7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2791-0CE0-4797-9F07-A08F2AC5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B02-DCF7-4817-A7F1-7D9CF265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82F0-886E-4DD3-9B0F-DB07398F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D55-7FCF-45C2-B4D3-A73883D4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E39-08B2-43F4-9075-85D7C6B3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9965-5499-427C-A7C2-CF82D2271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Wall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g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gh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le of T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tr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g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e of the R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 Pillars of Isl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rusa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othe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ythe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r’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h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j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38280" y="1142640"/>
            <a:ext cx="6477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 invented by the Musli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llectual center of Islamic 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 where Muslims were turned back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eading of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a religion belie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s of a reli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e in Jerusa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s of Islamic beli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ol used for wo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gion founded by Muhamm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istianity, Judaism, and Islam share this as a holy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y city of Islam; Great Mosque is locate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ty Muhammad and his followers escaped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gion of one g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nder of Islam; was a merchant and proph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ief in many g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lamic “bib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k that outlines the 5 Pill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ession of faith for Isl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be done 5 times/day for Musli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th of fasting for Musli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lims are required to give 2.5% of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lgrimage to Mec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5:44:02Z</dcterms:created>
  <dc:creator>chris.williams</dc:creator>
  <dc:description/>
  <dc:language>en-US</dc:language>
  <cp:lastModifiedBy>chris.williams</cp:lastModifiedBy>
  <dcterms:modified xsi:type="dcterms:W3CDTF">2010-11-10T21:34:42Z</dcterms:modified>
  <cp:revision>4</cp:revision>
  <dc:subject/>
  <dc:title>China and Japan</dc:title>
</cp:coreProperties>
</file>